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AFE-8A1D-4909-9A34-4A2EDA26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696-FC07-4B77-AC37-8664F9F6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75B-8DD7-4397-A4DA-2B17536A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A78-638A-493D-BADB-E9BF8200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E820-2B18-4ACC-8CF0-52E4E105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4511-F155-4B15-92ED-45D06D06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120B-2C7A-45AD-80E9-D58608AF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432C-F814-4B3B-BBFA-2474D8DA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6608-2FE6-40D3-936C-D3B15E79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10D-85F3-4AD9-A3BE-B6D14314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1786-16B6-45C6-8C60-D106EFA6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0879-82F6-4C1C-93BE-FF6035B9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3EDC-CBCC-45C8-AC97-EF79FDE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8A8E-681D-4C4A-BAB0-C944316E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1E6C-CE91-4FC6-B36A-C754383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103-EE8F-4CA8-85FA-6617962A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E048-E58C-4F1C-8992-C3159508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4624-C3DD-4031-9C67-5FE5E878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EEC1-0293-40C9-AD9B-FD4ABE2E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33E-D921-4FD4-9C8C-39DF1C62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776-AE3F-4C80-910A-2B4167D1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188-6D13-4E02-A4C7-BDBD515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46F-2985-4B31-AE89-7F84FB2D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4DF-9BA3-4F8D-A054-2B5337D7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E2BE-7C20-40BC-9842-F28DA5952B7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59C2-D327-429B-BD16-78335EDF9D8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pacificsciencecenter.org/Education/Resources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8948880" cy="251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572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 Antiqua"/>
              </a:rPr>
              <a:t>Pacific Science Center inspires a lifelong interest in science, math and technology by engaging diverse communities through interactive and innovative exhibits and programs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78920" cy="1268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Pacific Science Center has exhibits and activities for students of all ages (k-12). Whether your field trip is an introduction to concepts, or a culmination of a curriculum unit, PSC’s exhibits and school programs include inquiry based learning opportunities that engage students and encourage them to discover and explore the world around them!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Pacific Science Center offers a special program providing FREE bus transportation for school and community groups. To register your school  or community group, call (206) 443-2925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619840" cy="1268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www.pacificsciencecenter.org/Education/Resourc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for educational resources for teachers, including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formational articles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cience activiti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-visit worksheet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xhibit guid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amp-In is a private, after hours experience where you can explore everything Pacific Science Center has to offer, including a hands-on science workshop, live stage show and planetarium show presented by Pacific Science Center's enthusiastic, knowledgeable and entertaining education staff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st: $50 per pers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imes: 5:30pm to 9:30pm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Who: Families, schools, youth group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Register online or contact: (206) 443-2925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4:22:26Z</dcterms:created>
  <dc:creator>Information Technology</dc:creator>
  <dc:description/>
  <dc:language>en-US</dc:language>
  <cp:lastModifiedBy>Information Technology</cp:lastModifiedBy>
  <dcterms:modified xsi:type="dcterms:W3CDTF">2012-03-05T04:53:15Z</dcterms:modified>
  <cp:revision>4</cp:revision>
  <dc:subject/>
  <dc:title>Pacific Science center By: Andrew (AK47) Kreiter and Alex (AC-Slater) Craighead</dc:title>
</cp:coreProperties>
</file>